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0.gif" ContentType="image/gif"/>
  <Override PartName="/ppt/media/image22.gif" ContentType="image/gif"/>
  <Override PartName="/ppt/media/image17.jpeg" ContentType="image/jpeg"/>
  <Override PartName="/ppt/media/image5.gif" ContentType="image/gif"/>
  <Override PartName="/ppt/media/image21.gif" ContentType="image/gif"/>
  <Override PartName="/ppt/media/image19.gif" ContentType="image/gif"/>
  <Override PartName="/ppt/media/image16.gif" ContentType="image/gif"/>
  <Override PartName="/ppt/media/image1.wmf" ContentType="image/x-wmf"/>
  <Override PartName="/ppt/media/image14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1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D03-89EA-4752-A806-5B747361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9A9-7A9D-4418-9555-15AF93F0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CD02-B75E-4B10-AABA-89418BB3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40F-A6DE-4D64-B87A-D9608E58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79F-3608-448B-A13E-382782C4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874-0EB9-4E58-8E0D-DFDDE6EF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16-2F2D-4E94-A9C4-D7840340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BB67-BE52-4889-8FA3-B9F39561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73A-F720-4393-BFD2-570BD282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B26-B12F-40FC-9FAC-93CCF7FF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69F-EB82-4D7E-BDA4-2652134C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5B6-F349-4A00-9F4D-5BB83DD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80C3-9BC2-477A-8080-3364BA3D6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mmigration.museum.vic.gov.au/timeline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cismnoway.com.au/links.html#mr" TargetMode="External"/><Relationship Id="rId2" Type="http://schemas.openxmlformats.org/officeDocument/2006/relationships/hyperlink" Target="http://www.racismnoway.com.au/links.html#mr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5652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350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are one but we are ma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2716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1295280"/>
            <a:ext cx="170028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21924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867280" y="380880"/>
            <a:ext cx="2346480" cy="176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1905120"/>
            <a:ext cx="405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immigration.museum.vic.gov.au/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040" y="981000"/>
            <a:ext cx="81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lick on the link below and take notes on the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events that impacted on migration to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6640" y="26780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5760" y="2286000"/>
            <a:ext cx="84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Click on the file and print the sheet to Note 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Only write down the key words/ phrases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put these into meaningful sentence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662940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43200" y="304920"/>
            <a:ext cx="18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IMELIN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3280" y="349200"/>
            <a:ext cx="748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raw a timeline of events that impa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on Australian Immigratio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using your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You can choose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I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4468680"/>
            <a:ext cx="3047760" cy="227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15040" y="2819520"/>
            <a:ext cx="1214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Click on the website below and choose one agency to research and record your findings on the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Times New Roman"/>
              </a:rPr>
              <a:t>Next share this information with the class on the big c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acismnoway.com.au/links.html#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/>
          </p:cNvPr>
          <p:cNvSpPr/>
          <p:nvPr/>
        </p:nvSpPr>
        <p:spPr>
          <a:xfrm>
            <a:off x="7924680" y="2978280"/>
            <a:ext cx="814680" cy="901440"/>
          </a:xfrm>
          <a:custGeom>
            <a:avLst/>
            <a:gdLst>
              <a:gd name="textAreaLeft" fmla="*/ 52560 w 814680"/>
              <a:gd name="textAreaRight" fmla="*/ 762120 w 814680"/>
              <a:gd name="textAreaTop" fmla="*/ 52560 h 901440"/>
              <a:gd name="textAreaBottom" fmla="*/ 848880 h 901440"/>
            </a:gdLst>
            <a:ahLst/>
            <a:rect l="textAreaLeft" t="textAreaTop" r="textAreaRight" b="textAreaBottom"/>
            <a:pathLst>
              <a:path w="21600" h="23899">
                <a:moveTo>
                  <a:pt x="0" y="0"/>
                </a:moveTo>
                <a:lnTo>
                  <a:pt x="21600" y="0"/>
                </a:lnTo>
                <a:lnTo>
                  <a:pt x="21600" y="23899"/>
                </a:lnTo>
                <a:lnTo>
                  <a:pt x="0" y="23899"/>
                </a:lnTo>
                <a:close/>
              </a:path>
              <a:path fill="lightenLess" w="21600" h="23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99">
                <a:moveTo>
                  <a:pt x="21600" y="0"/>
                </a:moveTo>
                <a:lnTo>
                  <a:pt x="21600" y="23899"/>
                </a:lnTo>
                <a:lnTo>
                  <a:pt x="20200" y="22499"/>
                </a:lnTo>
                <a:lnTo>
                  <a:pt x="20200" y="1400"/>
                </a:lnTo>
                <a:close/>
              </a:path>
              <a:path fill="darkenLess" w="21600" h="23899">
                <a:moveTo>
                  <a:pt x="21600" y="23899"/>
                </a:moveTo>
                <a:lnTo>
                  <a:pt x="0" y="23899"/>
                </a:lnTo>
                <a:lnTo>
                  <a:pt x="1400" y="22499"/>
                </a:lnTo>
                <a:lnTo>
                  <a:pt x="20200" y="22499"/>
                </a:lnTo>
                <a:close/>
              </a:path>
              <a:path fill="lighten" w="21600" h="23899">
                <a:moveTo>
                  <a:pt x="0" y="23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99"/>
                </a:lnTo>
                <a:close/>
              </a:path>
              <a:path fill="darkenLess" w="21600" h="23899">
                <a:moveTo>
                  <a:pt x="5273" y="5135"/>
                </a:moveTo>
                <a:lnTo>
                  <a:pt x="12271" y="5135"/>
                </a:lnTo>
                <a:lnTo>
                  <a:pt x="16327" y="8634"/>
                </a:lnTo>
                <a:lnTo>
                  <a:pt x="16327" y="18765"/>
                </a:lnTo>
                <a:lnTo>
                  <a:pt x="5273" y="18765"/>
                </a:lnTo>
                <a:close/>
              </a:path>
              <a:path fill="darken" w="21600" h="23899">
                <a:moveTo>
                  <a:pt x="12271" y="5135"/>
                </a:moveTo>
                <a:lnTo>
                  <a:pt x="16327" y="8634"/>
                </a:lnTo>
                <a:lnTo>
                  <a:pt x="12271" y="863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9907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438360" y="60948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 HELPS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304920"/>
            <a:ext cx="7029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WE CALL AUSTRALIA H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965880" y="2251080"/>
            <a:ext cx="803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esign a poster to advertise Austr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as a great place to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clude pictures, slogans and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formation on the opportunities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has to o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big paper and tex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Inspira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Word or Creative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Remember your poster needs to encourage people to come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211400" cy="109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10065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5680" y="730080"/>
            <a:ext cx="774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a mindmap to organise your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from the immigration muse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Click on the file to go to mindma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instructions. Print these and pas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them into your book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7924680" y="3200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0"/>
            <a:ext cx="245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NDMA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463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69960" y="24300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240" y="471600"/>
            <a:ext cx="695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82880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14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600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2800" y="1422360"/>
            <a:ext cx="7567560" cy="5455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prised you at the immi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you feel about what you he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till need to fin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Write a letter to the museum telling of w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you learnt (from your mindmap) as well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nswering the questions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380880"/>
            <a:ext cx="4857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IMMIGRATION MUSEU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43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996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339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7621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rite a report about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How did you feel about 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someone about their l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Times New Roman"/>
              </a:rPr>
              <a:t>What did you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What would you do differently next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Click on the link to go to a chart to summarise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5791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19400" y="0"/>
            <a:ext cx="290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TERVIEW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556272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838080" y="5943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1131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533520"/>
            <a:ext cx="563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280" y="425520"/>
            <a:ext cx="801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ake predictions about the 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backgrounds of the children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Find out about the number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people from other cultura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backgrounds in our school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Represent these in a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using Exc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Click on the l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to see the school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457200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11783"/>
                </a:moveTo>
                <a:lnTo>
                  <a:pt x="17806" y="4777"/>
                </a:lnTo>
                <a:lnTo>
                  <a:pt x="17806" y="187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2072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315200" y="2754360"/>
            <a:ext cx="66348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019920" y="4038480"/>
            <a:ext cx="1382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90440" y="2622600"/>
            <a:ext cx="876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if the First Fleet never com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>
            <a:off x="47242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4040" y="3854520"/>
            <a:ext cx="334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on the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 use De Bono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nking h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0600" y="1314360"/>
            <a:ext cx="6764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How might this data have changed o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the last 50 to 1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ight it change in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Click on the file and complet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predict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Brainstorm possible predictio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obable outcomes. On the proof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record facts that support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3915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Less" w="21600" h="21607">
                <a:moveTo>
                  <a:pt x="5273" y="3989"/>
                </a:moveTo>
                <a:lnTo>
                  <a:pt x="12271" y="3989"/>
                </a:lnTo>
                <a:lnTo>
                  <a:pt x="16327" y="7488"/>
                </a:lnTo>
                <a:lnTo>
                  <a:pt x="16327" y="17619"/>
                </a:lnTo>
                <a:lnTo>
                  <a:pt x="5273" y="17619"/>
                </a:lnTo>
                <a:close/>
              </a:path>
              <a:path fill="darken" w="21600" h="21607">
                <a:moveTo>
                  <a:pt x="12271" y="3989"/>
                </a:moveTo>
                <a:lnTo>
                  <a:pt x="16327" y="7488"/>
                </a:lnTo>
                <a:lnTo>
                  <a:pt x="12271" y="7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228600"/>
            <a:ext cx="292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DAT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633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8960" y="299880"/>
          <a:ext cx="8220240" cy="625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99880"/>
                    <a:ext cx="822024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392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6080" y="103500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hat countries are included in each of 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major reg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731520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3048120"/>
            <a:ext cx="550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lick on the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o find the chart and fill it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ave it to your own folde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24400" y="304920"/>
            <a:ext cx="20952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TIST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19051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7:03:05Z</dcterms:created>
  <dc:creator>daniel</dc:creator>
  <dc:description/>
  <dc:language>en-US</dc:language>
  <cp:lastModifiedBy>stpeters</cp:lastModifiedBy>
  <dcterms:modified xsi:type="dcterms:W3CDTF">2008-07-16T02:03:15Z</dcterms:modified>
  <cp:revision>16</cp:revision>
  <dc:subject/>
  <dc:title>PowerPoint Presentation</dc:title>
</cp:coreProperties>
</file>